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wmf" ContentType="image/x-wmf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4240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80440" y="142668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36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4240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80440" y="4322520"/>
            <a:ext cx="289296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176120" y="420840"/>
            <a:ext cx="848196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1" lang="en-US" sz="2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08400" y="432252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120" y="408960"/>
            <a:ext cx="8481960" cy="84996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436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08400" y="1426680"/>
            <a:ext cx="43844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360" y="4322520"/>
            <a:ext cx="8985240" cy="264420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420840" y="3313080"/>
            <a:ext cx="9072360" cy="1222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739440" y="628200"/>
            <a:ext cx="860724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739440" y="2101320"/>
            <a:ext cx="8607240" cy="475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3668760" y="7174080"/>
            <a:ext cx="31924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ahoma"/>
              </a:rPr>
              <a:t>September 2006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"/>
          <p:cNvSpPr/>
          <p:nvPr/>
        </p:nvSpPr>
        <p:spPr>
          <a:xfrm>
            <a:off x="7643880" y="7149960"/>
            <a:ext cx="210024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51480" bIns="5148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1008000"/>
                <a:tab algn="l" pos="2016000"/>
                <a:tab algn="l" pos="3024360"/>
                <a:tab algn="l" pos="4032360"/>
                <a:tab algn="l" pos="5040360"/>
                <a:tab algn="l" pos="6048360"/>
                <a:tab algn="l" pos="7053120"/>
                <a:tab algn="l" pos="8061480"/>
                <a:tab algn="l" pos="9069480"/>
                <a:tab algn="l" pos="10077480"/>
                <a:tab algn="l" pos="11085480"/>
              </a:tabLst>
            </a:pPr>
            <a:fld id="{45DD1546-7C14-4147-8A9C-4FEECA56F08B}" type="slidenum">
              <a:rPr b="0" lang="en-US" sz="13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14280" y="121752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14280" y="6929280"/>
            <a:ext cx="9597960" cy="76320"/>
          </a:xfrm>
          <a:prstGeom prst="roundRect">
            <a:avLst>
              <a:gd name="adj" fmla="val 2380"/>
            </a:avLst>
          </a:prstGeom>
          <a:gradFill rotWithShape="0">
            <a:gsLst>
              <a:gs pos="0">
                <a:srgbClr val="ffffff"/>
              </a:gs>
              <a:gs pos="100000">
                <a:srgbClr val="000000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0" bIns="28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9400" y="1539720"/>
            <a:ext cx="6721560" cy="4480200"/>
          </a:xfrm>
          <a:prstGeom prst="roundRect">
            <a:avLst>
              <a:gd name="adj" fmla="val 3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14400" y="14400"/>
            <a:ext cx="4032000" cy="55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504360" y="1426680"/>
            <a:ext cx="898524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3" marL="176364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4" marL="2268360" indent="-25236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5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6" marL="2268360" indent="-252360">
              <a:spcBef>
                <a:spcPts val="825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15640" y="4427640"/>
            <a:ext cx="8605800" cy="15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1" lang="en-GB" sz="3200" spc="-1" strike="noStrike">
                <a:solidFill>
                  <a:srgbClr val="333399"/>
                </a:solidFill>
                <a:latin typeface="Tahoma"/>
              </a:rPr>
              <a:t>Accelerated Xen networking</a:t>
            </a:r>
            <a:endParaRPr b="1" lang="en-US" sz="32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Early performance results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0" y="1433520"/>
          <a:ext cx="10080720" cy="5442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33520"/>
                    <a:ext cx="10080720" cy="544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PU Usage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503280" y="1428840"/>
          <a:ext cx="8982000" cy="554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3280" y="1428840"/>
                    <a:ext cx="8982000" cy="554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What's next?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504720" y="1427040"/>
            <a:ext cx="8987040" cy="5545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Submission of patch to xen-dev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ome small changes contributed alread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Convenient to fold bend and fend into mainlin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431640" indent="-32364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e features to have in next-gen hardwar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AC filtering (on receive and transmi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MSIX (interrupt line per guest)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61840" indent="-2854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Local dest tx DMA-ed directly to local gues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Background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16000" y="1426680"/>
            <a:ext cx="964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olarflare does user-level networking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TCP/IP stack linked with user app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Known as </a:t>
            </a:r>
            <a:r>
              <a:rPr b="0" i="1" lang="en-US" sz="2900" spc="-1" strike="noStrike">
                <a:solidFill>
                  <a:srgbClr val="000000"/>
                </a:solidFill>
                <a:latin typeface="Tahoma"/>
              </a:rPr>
              <a:t>SolarStor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18440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Smart NIC allows safe access from user-mode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Onboard IOMMU for safe DMA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Nic’s filter-table demuxes incoming packets to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Queues get mapped into user-mode process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Eliminates interrupts/syscalls/context switche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Can also do zero-copy tx from user-mod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3400" cy="83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Virtual Interfaces and Protection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47280" y="1547280"/>
            <a:ext cx="892332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NIC has many Virtual Interfaces (VIs)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 = Filter + DMA queue + event queu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VIs largely about 'protection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llow untrusted entities to access the NIC without compromising system integrit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-29520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VIs mapped into untrusted entity’s address space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768240" indent="0">
              <a:spcBef>
                <a:spcPts val="711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53520" indent="-35352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Traditionally 'untrusted entity' means user process    ... but it might equally mean a guest VM kernel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Xen: I/O via Dom0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739440" y="1631880"/>
            <a:ext cx="8607240" cy="476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All 'real' drivers live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DomU kernels have pseudo drivers that communicate with Dom0 via the hypervisor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Necessary because only Dom0 is 'trusted'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06560" y="5292720"/>
            <a:ext cx="194472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4428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76120" y="563040"/>
            <a:ext cx="8483400" cy="83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4900" spc="-1" strike="noStrike">
                <a:solidFill>
                  <a:srgbClr val="000000"/>
                </a:solidFill>
                <a:latin typeface="Times New Roman"/>
              </a:rPr>
              <a:t>But with SolarStorm...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739440" y="1402920"/>
            <a:ext cx="9196200" cy="476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Accelerated routes set up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Then DomU can access hardware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DomU can access hardware directly + safely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68680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At least most of the time; still slow path via Dom0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9" name=""/>
          <p:cNvSpPr/>
          <p:nvPr/>
        </p:nvSpPr>
        <p:spPr>
          <a:xfrm>
            <a:off x="2590920" y="4141800"/>
            <a:ext cx="1081080" cy="158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0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248000" y="4141800"/>
            <a:ext cx="1081080" cy="1584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472000" y="4140360"/>
            <a:ext cx="1081080" cy="1584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om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24360" y="5869080"/>
            <a:ext cx="3600360" cy="28872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590920" y="6300720"/>
            <a:ext cx="4033800" cy="289080"/>
          </a:xfrm>
          <a:prstGeom prst="rect">
            <a:avLst/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806560" y="5292720"/>
            <a:ext cx="1729080" cy="1152360"/>
          </a:xfrm>
          <a:custGeom>
            <a:avLst/>
            <a:gdLst/>
            <a:ahLst/>
            <a:rect l="l" t="t" r="r" b="b"/>
            <a:pathLst>
              <a:path w="1225" h="726">
                <a:moveTo>
                  <a:pt x="1225" y="46"/>
                </a:moveTo>
                <a:lnTo>
                  <a:pt x="1225" y="454"/>
                </a:lnTo>
                <a:lnTo>
                  <a:pt x="363" y="454"/>
                </a:lnTo>
                <a:lnTo>
                  <a:pt x="363" y="0"/>
                </a:lnTo>
                <a:lnTo>
                  <a:pt x="0" y="0"/>
                </a:lnTo>
                <a:lnTo>
                  <a:pt x="0" y="726"/>
                </a:lnTo>
              </a:path>
            </a:pathLst>
          </a:custGeom>
          <a:noFill/>
          <a:ln w="12600">
            <a:solidFill>
              <a:srgbClr val="339966"/>
            </a:solidFill>
            <a:prstDash val="dash"/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745160" y="5802480"/>
            <a:ext cx="15174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Hypervisor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753080" y="5292720"/>
            <a:ext cx="0" cy="1008000"/>
          </a:xfrm>
          <a:prstGeom prst="line">
            <a:avLst/>
          </a:prstGeom>
          <a:ln w="44280">
            <a:solidFill>
              <a:srgbClr val="00ff00"/>
            </a:solidFill>
            <a:prstDash val="dash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39440" y="339840"/>
            <a:ext cx="8607240" cy="126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Front-end and back-end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60000" y="1547280"/>
            <a:ext cx="9575640" cy="523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Front-end driver in DomU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Where possible, interacts with h/w directly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This is known as “fast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Otherwise packets routed via Dom0: “slow path”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Need to be careful about Tx traffic for local machin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0">
              <a:spcBef>
                <a:spcPts val="711"/>
              </a:spcBef>
              <a:buNone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Tahoma"/>
              </a:rPr>
              <a:t>Back-end driver lives in Dom0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900" spc="-1" strike="noStrike">
                <a:solidFill>
                  <a:srgbClr val="000000"/>
                </a:solidFill>
                <a:latin typeface="Tahoma"/>
              </a:rPr>
              <a:t>Sets up VI per guest VM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Installs filters “on-demand” as traffic flows in/out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5560"/>
                <a:tab algn="l" pos="5791320"/>
                <a:tab algn="l" pos="6515280"/>
                <a:tab algn="l" pos="7236000"/>
                <a:tab algn="l" pos="795960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Enforces quotas on front-end drivers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311640" y="1332000"/>
            <a:ext cx="3816360" cy="4032000"/>
          </a:xfrm>
          <a:prstGeom prst="rect">
            <a:avLst/>
          </a:prstGeom>
          <a:solidFill>
            <a:srgbClr val="ffcc99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60360" y="1332000"/>
            <a:ext cx="2951280" cy="4032000"/>
          </a:xfrm>
          <a:prstGeom prst="rect">
            <a:avLst/>
          </a:prstGeom>
          <a:solidFill>
            <a:srgbClr val="cc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248000" y="2050920"/>
            <a:ext cx="2448000" cy="2952720"/>
          </a:xfrm>
          <a:custGeom>
            <a:avLst/>
            <a:gdLst/>
            <a:ahLst/>
            <a:rect l="l" t="t" r="r" b="b"/>
            <a:pathLst>
              <a:path w="1542" h="1860">
                <a:moveTo>
                  <a:pt x="0" y="1860"/>
                </a:moveTo>
                <a:lnTo>
                  <a:pt x="0" y="0"/>
                </a:lnTo>
                <a:lnTo>
                  <a:pt x="1542" y="0"/>
                </a:lnTo>
                <a:lnTo>
                  <a:pt x="1542" y="227"/>
                </a:lnTo>
                <a:lnTo>
                  <a:pt x="363" y="227"/>
                </a:lnTo>
                <a:lnTo>
                  <a:pt x="363" y="1860"/>
                </a:lnTo>
                <a:lnTo>
                  <a:pt x="0" y="1860"/>
                </a:lnTo>
                <a:close/>
              </a:path>
            </a:pathLst>
          </a:custGeom>
          <a:solidFill>
            <a:srgbClr val="00b8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311640" y="1619280"/>
            <a:ext cx="0" cy="37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92000" y="2050920"/>
            <a:ext cx="1440000" cy="3024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k-e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896000" y="2508120"/>
            <a:ext cx="1800000" cy="24955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ard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i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252680" y="2027160"/>
            <a:ext cx="241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/w independ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03640" y="4282920"/>
            <a:ext cx="1944360" cy="503280"/>
          </a:xfrm>
          <a:prstGeom prst="leftRightArrow">
            <a:avLst>
              <a:gd name="adj1" fmla="val 50000"/>
              <a:gd name="adj2" fmla="val 7690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868120" y="4348080"/>
            <a:ext cx="76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FIF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879640" y="240984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06560" y="2482920"/>
            <a:ext cx="115272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735280" y="2554200"/>
            <a:ext cx="1152360" cy="115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664000" y="2625840"/>
            <a:ext cx="1152360" cy="1152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har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g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008000" y="5580000"/>
            <a:ext cx="1295640" cy="720720"/>
            <a:chOff x="1008000" y="5580000"/>
            <a:chExt cx="1295640" cy="720720"/>
          </a:xfrm>
        </p:grpSpPr>
        <p:sp>
          <p:nvSpPr>
            <p:cNvPr id="124" name=""/>
            <p:cNvSpPr/>
            <p:nvPr/>
          </p:nvSpPr>
          <p:spPr>
            <a:xfrm>
              <a:off x="1008000" y="608472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100800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1440000" y="558000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871640" y="558000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936720" y="5651640"/>
            <a:ext cx="1295280" cy="720720"/>
            <a:chOff x="936720" y="5651640"/>
            <a:chExt cx="1295280" cy="720720"/>
          </a:xfrm>
        </p:grpSpPr>
        <p:sp>
          <p:nvSpPr>
            <p:cNvPr id="129" name=""/>
            <p:cNvSpPr/>
            <p:nvPr/>
          </p:nvSpPr>
          <p:spPr>
            <a:xfrm>
              <a:off x="936720" y="6156360"/>
              <a:ext cx="129528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93672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1368360" y="5651640"/>
              <a:ext cx="43128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800000" y="565164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792000" y="5724360"/>
            <a:ext cx="1295640" cy="720720"/>
            <a:chOff x="792000" y="5724360"/>
            <a:chExt cx="1295640" cy="720720"/>
          </a:xfrm>
        </p:grpSpPr>
        <p:sp>
          <p:nvSpPr>
            <p:cNvPr id="134" name=""/>
            <p:cNvSpPr/>
            <p:nvPr/>
          </p:nvSpPr>
          <p:spPr>
            <a:xfrm>
              <a:off x="792000" y="6229080"/>
              <a:ext cx="1295640" cy="21600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79200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1224000" y="5724360"/>
              <a:ext cx="43164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655640" y="5724360"/>
              <a:ext cx="432000" cy="503280"/>
            </a:xfrm>
            <a:prstGeom prst="rect">
              <a:avLst/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5184720" y="5651640"/>
            <a:ext cx="1295280" cy="720720"/>
            <a:chOff x="5184720" y="5651640"/>
            <a:chExt cx="1295280" cy="720720"/>
          </a:xfrm>
        </p:grpSpPr>
        <p:sp>
          <p:nvSpPr>
            <p:cNvPr id="139" name=""/>
            <p:cNvSpPr/>
            <p:nvPr/>
          </p:nvSpPr>
          <p:spPr>
            <a:xfrm>
              <a:off x="5184720" y="6156360"/>
              <a:ext cx="1295280" cy="216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VI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18472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R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616360" y="5651640"/>
              <a:ext cx="43128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Tx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6048000" y="5651640"/>
              <a:ext cx="431640" cy="50328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2960"/>
                  <a:tab algn="l" pos="1825560"/>
                  <a:tab algn="l" pos="2738520"/>
                  <a:tab algn="l" pos="3651120"/>
                  <a:tab algn="l" pos="4564080"/>
                  <a:tab algn="l" pos="5477040"/>
                  <a:tab algn="l" pos="6389640"/>
                  <a:tab algn="l" pos="7302600"/>
                  <a:tab algn="l" pos="8215200"/>
                  <a:tab algn="l" pos="9128160"/>
                  <a:tab algn="l" pos="10040760"/>
                  <a:tab algn="l" pos="10953720"/>
                </a:tabLst>
              </a:pPr>
              <a:r>
                <a:rPr b="0" lang="en-US" sz="1600" spc="-1" strike="noStrike">
                  <a:solidFill>
                    <a:srgbClr val="4d4d4d"/>
                  </a:solidFill>
                  <a:latin typeface="Times New Roman"/>
                </a:rPr>
                <a:t>EvQ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3" name=""/>
          <p:cNvSpPr/>
          <p:nvPr/>
        </p:nvSpPr>
        <p:spPr>
          <a:xfrm flipV="1">
            <a:off x="2087640" y="5651280"/>
            <a:ext cx="3097080" cy="144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2087640" y="6372360"/>
            <a:ext cx="3024000" cy="1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60360" y="5364000"/>
            <a:ext cx="6767640" cy="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05080" y="1279440"/>
            <a:ext cx="94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307320" y="1279440"/>
            <a:ext cx="100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634880" y="3274920"/>
            <a:ext cx="2078280" cy="1618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shared pa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V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x/Rx buf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ocal MAC tbl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Front-end driver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720" y="1331640"/>
            <a:ext cx="928872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end communicates with bend over FIFO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Implemented using shared page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Front-end driver split into two parts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ardware dependent and independent parts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H/w independent part loads h/w dependent part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Selects based on message from back-e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On Linux, this message is just name of a module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-252360">
              <a:spcBef>
                <a:spcPts val="663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ahoma"/>
              </a:rPr>
              <a:t>Non-fatal error if h/w dependent module not found</a:t>
            </a: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76120" y="420840"/>
            <a:ext cx="8481960" cy="83808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b">
            <a:noAutofit/>
          </a:bodyPr>
          <a:p>
            <a:pPr indent="0">
              <a:buNone/>
              <a:tabLst>
                <a:tab algn="l" pos="0"/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Migration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60000" y="1331640"/>
            <a:ext cx="9433080" cy="5543640"/>
          </a:xfrm>
          <a:prstGeom prst="rect">
            <a:avLst/>
          </a:prstGeom>
          <a:noFill/>
          <a:ln w="0">
            <a:noFill/>
          </a:ln>
        </p:spPr>
        <p:txBody>
          <a:bodyPr lIns="99360" rIns="99360" tIns="51480" bIns="51480" anchor="t">
            <a:normAutofit/>
          </a:bodyPr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On migration, back-end sends ‘h/w unavailable’ message to front-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1" marL="817560" indent="-314280">
              <a:spcBef>
                <a:spcPts val="711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</a:tabLst>
            </a:pPr>
            <a:r>
              <a:rPr b="0" lang="en-US" sz="2900" spc="-1" strike="noStrike">
                <a:solidFill>
                  <a:srgbClr val="000000"/>
                </a:solidFill>
                <a:latin typeface="Tahoma"/>
              </a:rPr>
              <a:t>Everything then goes over slow-path</a:t>
            </a:r>
            <a:endParaRPr b="0" lang="en-US" sz="29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Possibly followed by ‘new h/w available’ message at the other end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marL="376200" indent="0">
              <a:spcBef>
                <a:spcPts val="825"/>
              </a:spcBef>
              <a:buNone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marL="376200" indent="-376200">
              <a:spcBef>
                <a:spcPts val="825"/>
              </a:spcBef>
              <a:buClr>
                <a:srgbClr val="cc3300"/>
              </a:buClr>
              <a:buSzPct val="60000"/>
              <a:buFont typeface="Wingdings" charset="2"/>
              <a:buChar char=""/>
              <a:tabLst>
                <a:tab algn="l" pos="495360"/>
                <a:tab algn="l" pos="990720"/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ahoma"/>
              </a:rPr>
              <a:t>If no accelerated hardware available, or if no driver for that hardware available: slow path!</a:t>
            </a:r>
            <a:endParaRPr b="0" lang="en-US" sz="3300" spc="-1" strike="noStrike">
              <a:solidFill>
                <a:srgbClr val="000000"/>
              </a:solidFill>
              <a:latin typeface="Tahoma"/>
            </a:endParaRPr>
          </a:p>
          <a:p>
            <a:pPr lvl="2" marL="1260360" indent="0">
              <a:spcBef>
                <a:spcPts val="663"/>
              </a:spcBef>
              <a:buNone/>
              <a:tabLst>
                <a:tab algn="l" pos="1486080"/>
                <a:tab algn="l" pos="1981080"/>
                <a:tab algn="l" pos="2476440"/>
                <a:tab algn="l" pos="2971800"/>
                <a:tab algn="l" pos="3467160"/>
                <a:tab algn="l" pos="3962520"/>
                <a:tab algn="l" pos="4457880"/>
                <a:tab algn="l" pos="4952880"/>
                <a:tab algn="l" pos="5448240"/>
                <a:tab algn="l" pos="5943600"/>
                <a:tab algn="l" pos="6438960"/>
                <a:tab algn="l" pos="6934320"/>
                <a:tab algn="l" pos="7429680"/>
                <a:tab algn="l" pos="7924680"/>
                <a:tab algn="l" pos="8420040"/>
                <a:tab algn="l" pos="8915400"/>
                <a:tab algn="l" pos="9410760"/>
                <a:tab algn="l" pos="9906120"/>
                <a:tab algn="l" pos="10401480"/>
                <a:tab algn="l" pos="10896480"/>
              </a:tabLst>
            </a:pPr>
            <a:endParaRPr b="0" lang="en-US" sz="2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reg Law</cp:lastModifiedBy>
  <dcterms:modified xsi:type="dcterms:W3CDTF">2006-09-19T15:10:23Z</dcterms:modified>
  <cp:revision>15</cp:revision>
  <dc:subject/>
  <dc:title>Slide 1</dc:title>
</cp:coreProperties>
</file>